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AA5-AA9E-4E7C-B00C-78590273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2EE-958A-411E-B478-4565EC22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269-AA03-46D1-AECD-53D3DCA4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465-10AD-4974-89A5-19989BA0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632-8E0D-4135-85AB-98DC92D2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9B8-FA67-4ECE-BD0B-733703F4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0EF-CF06-4788-931C-E0CBE80B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37E-9462-4E50-9182-5F0E781B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940-3A8F-43BA-B22F-511040AF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0DA-B016-43A4-8538-9E5DF244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F1A-433E-4781-A13E-99474B5B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1EF-437A-46B8-891D-90649CF6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3AAF-24DD-409B-8996-79650AE09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"/><Relationship Id="rId3" Type="http://schemas.openxmlformats.org/officeDocument/2006/relationships/slide" Target="slide13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4041720" cy="5105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33520"/>
            <a:ext cx="49528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IAI C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purasul, ca simbol al Pastelui si mesager al cadourilor pentru copii, a aparut prima data  in Germania?In dimineata de Paste copiii asteapta cu nerabdare cadourile iepurasului care sunt in general ascunse prin casa sau grad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971800"/>
            <a:ext cx="464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stinii au vazut in miel un simbol al Invierii lui Isus si multe sunt popoarele care servesc miel la masa de Paste? Cea mai veche rugaciune de binecuvantare a mieilor a aparut intr-o manastire din Italia .Se considera aducatoare de noroc vederea unui miel, in special in aceasta perio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8148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a populara considera oul rosu ca avand puteri tamaduitoare si de indepartare a raului, aducand sanatate, frumusete si sp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6248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 REZOLVAM PROBLEME CU IEPURASI, OUA, MIEI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PROPIE PASTELE, SARBATOARE ASOCIATA DE COPII CU VENIREA IEPURAS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2168640" cy="290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914400"/>
            <a:ext cx="7620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ma a vopsit 33 oua rosii, 17 oua portocalii, iar Maria a reusit sa vopseasca cu 15 oua mai putin decat mama 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oua au vopsit in tota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3809880" y="3962520"/>
            <a:ext cx="9907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5410080" y="4724280"/>
            <a:ext cx="99072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6858000" y="3962520"/>
            <a:ext cx="9907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5410080" y="2971800"/>
            <a:ext cx="99072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305160" cy="3084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1143000"/>
            <a:ext cx="4724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purila a adus 100 de oua. Rosii si portocalii sunt 89, iar albastre si rosii 8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oua sunt de fiecare culo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352680"/>
            <a:ext cx="5029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 portocalii, 11 rosii, 18 alba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267080"/>
            <a:ext cx="5029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 rosii, 18  albastre, 11 portoca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457200" y="5105520"/>
            <a:ext cx="5029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portocalii, 11 albastre, 71 ros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019920"/>
            <a:ext cx="5029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albastre, 72 rosii, 18 portoca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lastslide"/>
          </p:cNvPr>
          <p:cNvSpPr/>
          <p:nvPr/>
        </p:nvSpPr>
        <p:spPr>
          <a:xfrm>
            <a:off x="7467480" y="60199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14304" y="10800"/>
                </a:moveTo>
                <a:lnTo>
                  <a:pt x="3798" y="17806"/>
                </a:lnTo>
                <a:lnTo>
                  <a:pt x="3798" y="3794"/>
                </a:lnTo>
                <a:close/>
              </a:path>
              <a:path fill="darken" w="21609" h="21600">
                <a:moveTo>
                  <a:pt x="16149" y="3794"/>
                </a:moveTo>
                <a:lnTo>
                  <a:pt x="16149" y="17806"/>
                </a:lnTo>
                <a:lnTo>
                  <a:pt x="17811" y="17806"/>
                </a:lnTo>
                <a:lnTo>
                  <a:pt x="1781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08360" cy="3809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212920" cy="2514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1828800"/>
            <a:ext cx="2133720" cy="2133720"/>
          </a:xfrm>
          <a:prstGeom prst="cloudCallout">
            <a:avLst>
              <a:gd name="adj1" fmla="val -65699"/>
              <a:gd name="adj2" fmla="val 93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AI FOST AT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 INCEARC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533520"/>
            <a:ext cx="236232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 GANDES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TE GRAB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8001000" y="5791320"/>
            <a:ext cx="533520" cy="7617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761760"/>
              <a:gd name="textAreaBottom" fmla="*/ 727200 h 761760"/>
            </a:gdLst>
            <a:ahLst/>
            <a:rect l="textAreaLeft" t="textAreaTop" r="textAreaRight" b="textAreaBottom"/>
            <a:pathLst>
              <a:path w="21600" h="30834">
                <a:moveTo>
                  <a:pt x="0" y="0"/>
                </a:moveTo>
                <a:lnTo>
                  <a:pt x="21600" y="0"/>
                </a:lnTo>
                <a:lnTo>
                  <a:pt x="21600" y="30834"/>
                </a:lnTo>
                <a:lnTo>
                  <a:pt x="0" y="30834"/>
                </a:lnTo>
                <a:close/>
              </a:path>
              <a:path fill="lightenLess" w="21600" h="30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34">
                <a:moveTo>
                  <a:pt x="21600" y="0"/>
                </a:moveTo>
                <a:lnTo>
                  <a:pt x="21600" y="30834"/>
                </a:lnTo>
                <a:lnTo>
                  <a:pt x="20200" y="29434"/>
                </a:lnTo>
                <a:lnTo>
                  <a:pt x="20200" y="1400"/>
                </a:lnTo>
                <a:close/>
              </a:path>
              <a:path fill="darkenLess" w="21600" h="30834">
                <a:moveTo>
                  <a:pt x="21600" y="30834"/>
                </a:moveTo>
                <a:lnTo>
                  <a:pt x="0" y="30834"/>
                </a:lnTo>
                <a:lnTo>
                  <a:pt x="1400" y="29434"/>
                </a:lnTo>
                <a:lnTo>
                  <a:pt x="20200" y="29434"/>
                </a:lnTo>
                <a:close/>
              </a:path>
              <a:path fill="lighten" w="21600" h="30834">
                <a:moveTo>
                  <a:pt x="0" y="30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34"/>
                </a:lnTo>
                <a:close/>
              </a:path>
              <a:path fill="darken" w="21600" h="30834">
                <a:moveTo>
                  <a:pt x="3794" y="12110"/>
                </a:moveTo>
                <a:lnTo>
                  <a:pt x="7301" y="12110"/>
                </a:lnTo>
                <a:lnTo>
                  <a:pt x="7301" y="17445"/>
                </a:lnTo>
                <a:cubicBezTo>
                  <a:pt x="7301" y="18368"/>
                  <a:pt x="8102" y="19099"/>
                  <a:pt x="9138" y="19099"/>
                </a:cubicBezTo>
                <a:lnTo>
                  <a:pt x="10800" y="19099"/>
                </a:lnTo>
                <a:cubicBezTo>
                  <a:pt x="11836" y="19099"/>
                  <a:pt x="12636" y="18368"/>
                  <a:pt x="12636" y="17445"/>
                </a:cubicBezTo>
                <a:lnTo>
                  <a:pt x="12636" y="12110"/>
                </a:lnTo>
                <a:lnTo>
                  <a:pt x="10800" y="12110"/>
                </a:lnTo>
                <a:lnTo>
                  <a:pt x="14308" y="8602"/>
                </a:lnTo>
                <a:lnTo>
                  <a:pt x="17981" y="12110"/>
                </a:lnTo>
                <a:lnTo>
                  <a:pt x="16144" y="12110"/>
                </a:lnTo>
                <a:lnTo>
                  <a:pt x="16144" y="17445"/>
                </a:lnTo>
                <a:cubicBezTo>
                  <a:pt x="16144" y="20213"/>
                  <a:pt x="13568" y="22772"/>
                  <a:pt x="10800" y="22772"/>
                </a:cubicBezTo>
                <a:lnTo>
                  <a:pt x="9138" y="22772"/>
                </a:lnTo>
                <a:cubicBezTo>
                  <a:pt x="6370" y="22772"/>
                  <a:pt x="3794" y="20213"/>
                  <a:pt x="3794" y="1744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635040"/>
            <a:ext cx="6372360" cy="511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15000" y="152280"/>
            <a:ext cx="2514600" cy="2057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ICITAR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 REUS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7924680" y="563868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  <a:path fill="darken" w="21600" h="25914">
                <a:moveTo>
                  <a:pt x="3794" y="9650"/>
                </a:moveTo>
                <a:lnTo>
                  <a:pt x="7301" y="9650"/>
                </a:lnTo>
                <a:lnTo>
                  <a:pt x="7301" y="14985"/>
                </a:lnTo>
                <a:cubicBezTo>
                  <a:pt x="7301" y="15907"/>
                  <a:pt x="8102" y="16639"/>
                  <a:pt x="9138" y="16639"/>
                </a:cubicBezTo>
                <a:lnTo>
                  <a:pt x="10800" y="16639"/>
                </a:lnTo>
                <a:cubicBezTo>
                  <a:pt x="11836" y="16639"/>
                  <a:pt x="12636" y="15907"/>
                  <a:pt x="12636" y="14985"/>
                </a:cubicBezTo>
                <a:lnTo>
                  <a:pt x="12636" y="9650"/>
                </a:lnTo>
                <a:lnTo>
                  <a:pt x="10800" y="9650"/>
                </a:lnTo>
                <a:lnTo>
                  <a:pt x="14308" y="6142"/>
                </a:lnTo>
                <a:lnTo>
                  <a:pt x="17981" y="9650"/>
                </a:lnTo>
                <a:lnTo>
                  <a:pt x="16144" y="9650"/>
                </a:lnTo>
                <a:lnTo>
                  <a:pt x="16144" y="14985"/>
                </a:lnTo>
                <a:cubicBezTo>
                  <a:pt x="16144" y="17753"/>
                  <a:pt x="13568" y="20312"/>
                  <a:pt x="10800" y="20312"/>
                </a:cubicBezTo>
                <a:lnTo>
                  <a:pt x="9138" y="20312"/>
                </a:lnTo>
                <a:cubicBezTo>
                  <a:pt x="6370" y="20312"/>
                  <a:pt x="3794" y="17753"/>
                  <a:pt x="3794" y="1498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903480" cy="487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67520" y="2133720"/>
            <a:ext cx="2157480" cy="4457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380880"/>
            <a:ext cx="83818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-AI DESCURCAT EXCELENT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 SIGURANTA VEI GASI SI CADOURILE CE LE VOI ADUCE DE PASTI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666880" y="5791320"/>
            <a:ext cx="4314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TERIAL REALIZAT D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ST. LOREDANA CRISA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335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e directie merge masina din imag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5334120" y="3657600"/>
            <a:ext cx="2743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 dreap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5181480" y="2666880"/>
            <a:ext cx="2743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 sta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5334120" y="4876920"/>
            <a:ext cx="2743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 pe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462400" cy="356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1371600"/>
            <a:ext cx="53341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purasul i-a adus lui Danut o masina, doua ciocolate, noua bomboane si o carte cu pove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dulciuri a primit Danut de la Iepur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495680"/>
            <a:ext cx="838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2057400" y="449568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49568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5257800" y="449568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3152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23992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9144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ca are in total 30 de pui. Daca   17 sunt albi , aflati cati puisori sunt pestri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3276720" y="3886200"/>
            <a:ext cx="68580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4495680" y="2743200"/>
            <a:ext cx="68580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5029200"/>
            <a:ext cx="68580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5791320" y="3962520"/>
            <a:ext cx="68580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7315200" y="57150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" w="21600" h="25532">
                <a:moveTo>
                  <a:pt x="3794" y="5760"/>
                </a:moveTo>
                <a:lnTo>
                  <a:pt x="17806" y="12766"/>
                </a:lnTo>
                <a:lnTo>
                  <a:pt x="3794" y="1977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2689200"/>
            <a:ext cx="4343400" cy="3822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0720" y="60948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ata avea  34 de oua. Andrei i-a luat 7 si le-a sp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oua mai are ra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4343400" y="3657600"/>
            <a:ext cx="106668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5638680" y="2590920"/>
            <a:ext cx="1067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5867280" y="4495680"/>
            <a:ext cx="1067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7010280" y="3581280"/>
            <a:ext cx="1067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  <a:path fill="darken" w="21600" h="25914">
                <a:moveTo>
                  <a:pt x="3794" y="5950"/>
                </a:moveTo>
                <a:lnTo>
                  <a:pt x="17806" y="12957"/>
                </a:lnTo>
                <a:lnTo>
                  <a:pt x="3794" y="1996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548640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2819520" y="419112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4800600" y="533412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6934320" y="434340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4038480" cy="3012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52880" y="990720"/>
            <a:ext cx="3810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 camp sunt 3 miei , 2 iepurasi , 4 puis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picioare au in to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3794"/>
                </a:moveTo>
                <a:lnTo>
                  <a:pt x="19002" y="10800"/>
                </a:lnTo>
                <a:lnTo>
                  <a:pt x="49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3705480" cy="3394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19320" y="76212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purasul a adus ouale in cos. Pe drum a pierdut 18, acum mai are doar 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oua avea Iepuras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4648320" y="3581280"/>
            <a:ext cx="10666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6553080" y="4572000"/>
            <a:ext cx="106704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4724280" y="4572000"/>
            <a:ext cx="106704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6629400" y="3581280"/>
            <a:ext cx="10666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67080" y="2908440"/>
            <a:ext cx="4648320" cy="3740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8580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-o zi Iepurila a mancat 25 de oua, a doua zi cu 8 mai pu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oua au ramas daca la inceput avea 50 ou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38088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1981080" y="480060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457200" y="487692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1981080" y="388620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251460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805200" cy="387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609480"/>
            <a:ext cx="7619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 coloreaza 45 de oua portocalii, cu 18 mai putine galbene, iar rosii cat cele galbene si portocalii impreu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oua a vopsit in to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457200" y="4267080"/>
            <a:ext cx="91440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1676520" y="3352680"/>
            <a:ext cx="91440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1447920" y="5181480"/>
            <a:ext cx="9144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2514600" y="4267080"/>
            <a:ext cx="9144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0:46:01Z</dcterms:created>
  <dc:creator>Loredana</dc:creator>
  <dc:description/>
  <dc:language>en-US</dc:language>
  <cp:lastModifiedBy>Loredana</cp:lastModifiedBy>
  <dcterms:modified xsi:type="dcterms:W3CDTF">2009-03-31T13:55:02Z</dcterms:modified>
  <cp:revision>23</cp:revision>
  <dc:subject/>
  <dc:title>Slide 1</dc:title>
</cp:coreProperties>
</file>